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02AC9-A936-4B29-B7F9-10E8CA83F8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1189C-4CE3-471F-A470-0B5557B8F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63ABE-2D36-46B9-9CD6-7814A2376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A4685-6E3A-4521-8340-06EF79FA4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4DFD5-F2FE-40DC-9F81-51C0A5EF2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CA746-465A-4E08-91FB-76A2E9DF4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3FF36-D772-44A0-92D1-256A11609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F8DC1-E44A-46BB-B2F0-8BCDA6961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F7C69-4D12-4265-8380-9553569B4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36C44-E399-4C86-9C1E-A2D7E79E9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2B377-2719-4C0D-9865-E2C9F6C28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B01A0-26B8-46D9-B33F-A970B9E75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936D0-A182-42B5-BD7B-F00DFDEF8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FBF28-BE39-4505-BD41-3BAB738072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90920" y="5105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ndara"/>
              </a:rPr>
              <a:t>F.I.R.S.T.  Team  Fall 20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240" y="6044400"/>
            <a:ext cx="762120" cy="243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447920" y="617220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Candara"/>
              </a:rPr>
              <a:t>   </a:t>
            </a:r>
            <a:r>
              <a:rPr b="0" lang="en-GB" sz="1800" spc="-1" strike="noStrike">
                <a:solidFill>
                  <a:srgbClr val="808080"/>
                </a:solidFill>
                <a:latin typeface="Candara"/>
              </a:rPr>
              <a:t>Evan Zasoski                 S t e p h a n i e  N g u y e n                  Hui Ca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685800"/>
            <a:ext cx="990720" cy="990720"/>
          </a:xfrm>
          <a:prstGeom prst="ellipse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F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57200" y="1752480"/>
            <a:ext cx="990720" cy="990720"/>
          </a:xfrm>
          <a:prstGeom prst="ellipse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I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2819520"/>
            <a:ext cx="990720" cy="990360"/>
          </a:xfrm>
          <a:prstGeom prst="ellips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R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3886200"/>
            <a:ext cx="990720" cy="990720"/>
          </a:xfrm>
          <a:prstGeom prst="ellipse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S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952880"/>
            <a:ext cx="990720" cy="990720"/>
          </a:xfrm>
          <a:prstGeom prst="ellipse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T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447920" y="1066680"/>
            <a:ext cx="144756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MI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447920" y="2057400"/>
            <a:ext cx="320040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447920" y="3147840"/>
            <a:ext cx="320040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RE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447920" y="4267080"/>
            <a:ext cx="320040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523880" y="5181480"/>
            <a:ext cx="320040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NS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800600" y="1752480"/>
            <a:ext cx="3809880" cy="368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2600280" cy="21322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2743200" y="1369800"/>
            <a:ext cx="6172200" cy="26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cc00"/>
                </a:solidFill>
                <a:latin typeface="Arial"/>
              </a:rPr>
              <a:t>Problem of Waiting Ro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ack of positive distr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ack of information, instruction and communication for patien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d family memb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ack of design solution to satisf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aesthetic ne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Keyboard and furniture are hard to disinf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PROBLEM AND PRINCI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666880" y="4235400"/>
            <a:ext cx="5943600" cy="26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cc00"/>
                </a:solidFill>
                <a:latin typeface="Arial"/>
              </a:rPr>
              <a:t>Design Princi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 and entertai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grated with information to facilitate check-in process and make care process transpar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esthetically pleasing/ergonom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sy to disinfect/clea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0" y="1523880"/>
            <a:ext cx="2590920" cy="17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cc00"/>
                </a:solidFill>
                <a:latin typeface="Arial"/>
              </a:rPr>
              <a:t>F.I.R.S.T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895480" y="3505320"/>
            <a:ext cx="510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What is in the F.I.R.S.T interfac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c Tac Toe G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quarium Explo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ctor P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Common causes of hospital visits, ie.  broken arms, asthma et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Basic process for hospital vis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Knowledge about how to keep healt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2438280" cy="16192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0" y="3328920"/>
            <a:ext cx="2438280" cy="16210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2968200" y="1370160"/>
            <a:ext cx="3831840" cy="19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Design 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o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oup ball pi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o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or balls with sensor chi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o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.I.R.S.T interactive 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o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ll mounted scre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o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V light underneath 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cc00"/>
                </a:solidFill>
                <a:latin typeface="Arial"/>
              </a:rPr>
              <a:t>CONTRIBU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Contrib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bine principles of a waiting area with a play ground to appeal to child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grated with information for the children presented in non conventional w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hance learning and entertaining in healthcare environm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lp to build sense of communit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uce risk of inf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33520" y="4540320"/>
            <a:ext cx="822960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Future Impro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o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large the database of the F.I.R.S.T interface (include more knowledge about self care and prevention etc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o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sonalize the ball to facilitate self check-in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o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able the instant contact between kids and their parents/caregi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8T01:50:34Z</dcterms:created>
  <dc:creator>HCAI3</dc:creator>
  <dc:description/>
  <dc:language>en-US</dc:language>
  <cp:lastModifiedBy>HCAI3</cp:lastModifiedBy>
  <dcterms:modified xsi:type="dcterms:W3CDTF">2007-12-08T02:43:20Z</dcterms:modified>
  <cp:revision>22</cp:revision>
  <dc:subject/>
  <dc:title>Slide 1</dc:title>
</cp:coreProperties>
</file>